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9B781-2EA2-405D-9421-683E9E33E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80518-44C3-4FB8-AC4B-2375650AC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AFA8F-4B71-427E-A33F-E72A9458E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05A04-C50A-40FE-8E87-BC70F283E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6C85D-2770-436F-BA3B-B1A4B8531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9A478-00B3-49CD-835E-284364012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EBAEE-22CF-4CAC-8713-EA29DDD3F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A28D4-3DD5-4D36-9363-A7FE8A81F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87786-1ADB-415E-BD5C-9187A96FF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3B8DC-787F-47C7-BB6E-ABE5B25EF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0ED4F-AF4D-4B3D-B1B9-2992FDE7D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20B52-A63E-42AF-9DFF-233BEC8987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BB501-63F7-4294-BA88-8F248D7260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randomhouse.com/features/stephaniespinner/about_author" TargetMode="External"/><Relationship Id="rId3" Type="http://schemas.openxmlformats.org/officeDocument/2006/relationships/hyperlink" Target="http://www.pantheon.org/articles/h/hermes" TargetMode="External"/><Relationship Id="rId4" Type="http://schemas.openxmlformats.org/officeDocument/2006/relationships/hyperlink" Target="http://www.stanford.edu/~plomio/history"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Quicksilv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Thematic Book Repor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Katie Barnes</a:t>
            </a:r>
            <a:endParaRPr b="0" lang="en-US" sz="3200" spc="-1" strike="noStrike">
              <a:solidFill>
                <a:srgbClr val="000000"/>
              </a:solidFill>
              <a:latin typeface="Arial"/>
            </a:endParaRPr>
          </a:p>
        </p:txBody>
      </p:sp>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333399"/>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setting of my book is “The Heavens.” Most of the story happens here. This is where Hermes starts his adventures to the Underworld, meets with Zeus and receives missions from Zeus. This is also where the golden apple was thrown and the beauty contest was judged.</a:t>
            </a:r>
            <a:endParaRPr b="0" lang="en-US" sz="3200" spc="-1" strike="noStrike">
              <a:solidFill>
                <a:srgbClr val="000000"/>
              </a:solidFill>
              <a:latin typeface="Arial"/>
            </a:endParaRPr>
          </a:p>
        </p:txBody>
      </p:sp>
    </p:spTree>
  </p:cSld>
  <p:transition spd="slow">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randomhouse.com/features/stephaniespinner/about_auth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www.pantheon.org/articles/h/her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www.stanford.edu/~plomio/histo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99"/>
            </a:gs>
            <a:gs pos="100000">
              <a:srgbClr val="333399"/>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mes</a:t>
            </a:r>
            <a:endParaRPr b="0" lang="en-US" sz="4400" spc="-1" strike="noStrike">
              <a:solidFill>
                <a:srgbClr val="000000"/>
              </a:solidFill>
              <a:latin typeface="Arial"/>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ermes is the son of Zeus. Hermes is also the “Messenger of the Gods” and the “Guide to the Underworld.” He is known by many titles but is most widely known by “Prince of Thieves.” He got this title because on his first day of life, he stole some cattle from his closest brother, Apollo. On that day, he also made the first lyre.</a:t>
            </a:r>
            <a:endParaRPr b="0" lang="en-US" sz="3200" spc="-1" strike="noStrike">
              <a:solidFill>
                <a:srgbClr val="000000"/>
              </a:solidFill>
              <a:latin typeface="Arial"/>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ojan War</a:t>
            </a:r>
            <a:endParaRPr b="0" lang="en-US" sz="4400" spc="-1" strike="noStrike">
              <a:solidFill>
                <a:srgbClr val="000000"/>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Trojan War consisted of Troy versus the Greeks. It had originated by a quarrel between Athena, Aphrodite, and Hera. The quarrel stated because Eris, Goddess of Discord, threw an apple labeled “To the Fairest” at the feet of the three goddesses, whom are all extremely vain. </a:t>
            </a:r>
            <a:endParaRPr b="0" lang="en-US" sz="3200" spc="-1" strike="noStrike">
              <a:solidFill>
                <a:srgbClr val="000000"/>
              </a:solidFill>
              <a:latin typeface="Arial"/>
            </a:endParaRPr>
          </a:p>
        </p:txBody>
      </p:sp>
    </p:spTree>
  </p:cSld>
  <p:transition spd="slow">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333399"/>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ojan War cont.</a:t>
            </a:r>
            <a:endParaRPr b="0" lang="en-US" sz="44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shepherd named Paris, “the most beautiful man alive,” judged “who the fairest was.” He eventually chose Aphrodite. In exchange, she gave him the love of the most beautiful woman, Helen of the Greeks. This caused her husband, King of the Greeks, to war Troy. Troy eventually won the battle.</a:t>
            </a:r>
            <a:endParaRPr b="0" lang="en-US" sz="3200" spc="-1" strike="noStrike">
              <a:solidFill>
                <a:srgbClr val="000000"/>
              </a:solidFill>
              <a:latin typeface="Arial"/>
            </a:endParaRPr>
          </a:p>
        </p:txBody>
      </p:sp>
    </p:spTree>
  </p:cSld>
  <p:transition spd="slow">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uthor: Stephanie Spinner</a:t>
            </a:r>
            <a:endParaRPr b="0" lang="en-US" sz="44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ephanie Spinner was born in Iowa, and she was raised in Rockaway Beach, NY. She’s lived in many places like London, Morocco, Nepal, Ceylon, and Pakistan. She co-wrote “Aliens for Breakfast/Lunch”. She wrote “Aliens for Dinner,” “Be First in the Universe,” and “The Magic of Merlin.” She has worked as a publisher and an editor and has won the Texas Blue-Bonnet award.</a:t>
            </a:r>
            <a:endParaRPr b="0" lang="en-US" sz="2800" spc="-1" strike="noStrike">
              <a:solidFill>
                <a:srgbClr val="000000"/>
              </a:solidFill>
              <a:latin typeface="Arial"/>
            </a:endParaRPr>
          </a:p>
        </p:txBody>
      </p:sp>
    </p:spTree>
  </p:cSld>
  <p:transition spd="slow">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333399"/>
            </a:gs>
            <a:gs pos="100000">
              <a:srgbClr val="009999"/>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Characters</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mes, Messenger of the Go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us, King of Go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hrodite, Goddess of Lov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a, Goddess of Pow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hena, Goddess of Wisdom and W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s, Goddess of Discor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is, Morta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comb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a:t>
            </a: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s throws the Golden Apple at the feet of the goddes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ddesses demand a competi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is judges the competi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is chooses Aphrodi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hrodite gives him lov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jan War begi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y wins the Trojan Wa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333399"/>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lict</a:t>
            </a: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conflict in this story is the Trojan War. When the war occurs, the Gods plunge into deep sadness. The Gods are also split down the middle on who they want to win. Hermes, Zeus, and Aphrodite want Troy to win. Athena and Hera want the Greeks to win. Ares and Eris don’t care. They want the war to go on for as long as possible.</a:t>
            </a:r>
            <a:endParaRPr b="0" lang="en-US" sz="3200" spc="-1" strike="noStrike">
              <a:solidFill>
                <a:srgbClr val="000000"/>
              </a:solidFill>
              <a:latin typeface="Arial"/>
            </a:endParaRPr>
          </a:p>
        </p:txBody>
      </p:sp>
    </p:spTree>
  </p:cSld>
  <p:transition spd="slow">
    <p:wheel spokes="3"/>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mes</a:t>
            </a: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be fair and don’t take bribes. They lead to conseque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ining love from an object(money, power, or a golden apple,) is dangero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uty is not that important</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16:34:50Z</dcterms:created>
  <dc:creator>scott barnes</dc:creator>
  <dc:description/>
  <dc:language>en-US</dc:language>
  <cp:lastModifiedBy>USC/ISI</cp:lastModifiedBy>
  <dcterms:modified xsi:type="dcterms:W3CDTF">2009-11-18T15:49:32Z</dcterms:modified>
  <cp:revision>18</cp:revision>
  <dc:subject/>
  <dc:title>“Quicksilver”</dc:title>
</cp:coreProperties>
</file>